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7149"/>
        <c:axId val="9433546"/>
      </c:barChart>
      <c:catAx>
        <c:axId val="9477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3546"/>
        <c:crosses val="autoZero"/>
        <c:auto val="1"/>
        <c:lblAlgn val="ctr"/>
        <c:lblOffset val="100"/>
        <c:noMultiLvlLbl val="0"/>
      </c:catAx>
      <c:valAx>
        <c:axId val="9433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7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F3B-B48D-4EC3-AD30-23342332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299-33E0-437D-BFC0-C2BCDAA4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E88-2A38-4889-B39C-ACC86E55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DD3-E5E9-4C46-BC59-2692D717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184-6145-4EAD-B66E-6FA9ED07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1E2-053A-4DEB-B07C-0DF44D54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185-95AC-49CB-950B-84A958CB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E09-7D7A-4749-AA8F-F074E50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21E-C393-4E60-A7F7-3BE8D5C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425-4FFD-4DFD-B4D7-062A2330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F61-7EDF-4874-AF22-9225A5F6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0F4-7598-4E35-B7B0-93B11F33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B6EFA-AC4F-4F81-AE06-00C287C7D0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