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41130"/>
        <c:axId val="39577847"/>
      </c:barChart>
      <c:catAx>
        <c:axId val="82411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577847"/>
        <c:crosses val="autoZero"/>
        <c:auto val="1"/>
        <c:lblAlgn val="ctr"/>
        <c:lblOffset val="100"/>
        <c:noMultiLvlLbl val="0"/>
      </c:catAx>
      <c:valAx>
        <c:axId val="395778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411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111A-3464-4351-8AB8-E78AB1F75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E1C8-C1F5-4612-87EA-BB8E1BD22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4B59-7B76-40B6-9D4E-99D688716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EE09-CC5E-460C-B222-472B99148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4114-AFC2-4AA2-A371-1F131338B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A5B5-05FD-4573-AB8E-8B3A9A6F1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AF64-6419-4A9B-8B84-EA023E163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92A6-3109-4862-BABD-033530F95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F6B9-1D51-4B06-808B-73D19FF67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1637-4D9B-4B91-8F23-8A6BD099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366B-57E9-42E6-8087-355342C6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DE80-1733-4343-9F51-8340AA5B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DDBA10-C9B0-4710-B9A4-661782DE99E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