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9975"/>
        <c:axId val="52583550"/>
      </c:barChart>
      <c:catAx>
        <c:axId val="223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83550"/>
        <c:crosses val="autoZero"/>
        <c:auto val="1"/>
        <c:lblAlgn val="ctr"/>
        <c:lblOffset val="100"/>
        <c:noMultiLvlLbl val="0"/>
      </c:catAx>
      <c:valAx>
        <c:axId val="52583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71C-F3FF-4F4F-B7E4-F7B3EA8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CFD-E380-412B-912B-08E94E6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81F-7D37-4076-B43B-CFCEFD89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7F0-F8BF-457B-9AF9-68CA9FD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921-E0BE-46A3-8DD8-1802706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04E-BD8F-4D55-9E36-50B9C3A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19F-6A35-43AF-9385-ABCCCF62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CC9-75AA-4DF4-A32A-D7240F6C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07D-579F-4FCA-BD8E-4FCBD766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10E-DB83-4A16-A481-8A9B6BB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1A7-5E8E-490F-B099-9C94006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552-07B4-40ED-A76D-2AD1B15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51FC3-E1F7-4855-A559-820BC905D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